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327-B0E4-4E3E-A3A9-41FF566B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E50-AC02-4C9B-9B05-AB4286C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30-6751-442B-8A93-710C7A3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2E7-6775-423B-9DD8-85D9FBCF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9EE-2B60-4046-BE70-11343C4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88A-0540-43E7-B556-8C431D2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3E3-D073-49D9-BAF9-390E8E8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4F8-3FF3-4EF8-8143-CE18431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14A-9C72-45FE-8EDF-72206E39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4E3-3EA4-4DF3-A34C-3BE7B1F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62F-BAB6-496F-B059-FDABFD0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720-6456-48DA-88E0-B9D0C301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9E0-F72B-4A02-A961-64B16E65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8136000" cy="71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your books, answer the following questions, in English under the title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asas a ven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question and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the biggest in terms of si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a ga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the most bedroo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does not have airconditioning and how do you say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probably has the best transport links? How do you know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apparently light with excellent vie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been refurnish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in the centre of 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ype of housing are all 3 of the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C more expensive than B, despite being smaller and having less bedroo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35:28Z</dcterms:created>
  <dc:creator>Owner1</dc:creator>
  <dc:description/>
  <dc:language>en-US</dc:language>
  <cp:lastModifiedBy>Owner1</cp:lastModifiedBy>
  <dcterms:modified xsi:type="dcterms:W3CDTF">2008-11-25T17:33:31Z</dcterms:modified>
  <cp:revision>3</cp:revision>
  <dc:subject/>
  <dc:title>Slide 1</dc:title>
</cp:coreProperties>
</file>